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D6E-1A42-4EA5-A334-95F846F5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320-87E3-43BE-BA33-368D1367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D6A-7B6B-411C-84AA-8BD6BB89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F30-FA71-42AB-AF10-5EE22FB9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9A3-ACB8-4591-9065-6FBCD3E9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5EA-7248-48F8-B03D-4E0DEDAA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5A5-8AFA-4210-9199-70E9C57D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914-E8D5-48DB-8BB8-B509F6F1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E80-10BF-470C-AC09-2DED5E6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42D-C2A1-47F2-9CE3-8195BF82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60F-B7B3-42E3-9200-D6A6CA6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E8F-2DD9-41D6-A80A-BE433AB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6F9E2-0AAE-487F-B61B-BEC5C14EC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icial flag of the “Know-Nothing” Pa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78840"/>
            <a:ext cx="9829800" cy="1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ativist cartoon showing a Irish immigrant and a German immigrant stealing a ballot box during an election (185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30184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commonly placed in businesses in the mid-1800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9520" y="1600200"/>
            <a:ext cx="935028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441360"/>
            <a:ext cx="75438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61722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5:45:51Z</dcterms:created>
  <dc:creator/>
  <dc:description/>
  <dc:language>en-US</dc:language>
  <cp:lastModifiedBy/>
  <cp:revision>1</cp:revision>
  <dc:subject/>
  <dc:title/>
</cp:coreProperties>
</file>